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F60-E31C-4853-B358-668DD828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8FD-A6C1-4A05-B4FF-95CEAB13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371-F89E-45A3-8805-9E7EDA2F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ED5-C3C2-41BB-8913-5DF32540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EF9-F445-4692-99CA-A4F8C9BA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A47-01C2-4210-A3EF-BA19A353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2A6-045E-4774-84B9-37F7277D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79E-33FC-49B5-8FB1-4034EA5A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313-ECEF-4415-8167-4704D603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790-4AEE-4A25-8F1C-8A06576A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795-48A9-4AAA-966D-1BE382A2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47D-DA8C-406B-B94C-DC7E50F1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81AD-1877-4C90-B422-FA7EAD608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29200" y="1828800"/>
          <a:ext cx="312408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828800"/>
                    <a:ext cx="31240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979640" y="236520"/>
            <a:ext cx="5030640" cy="64404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Деление с остатк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27160" y="1336680"/>
            <a:ext cx="595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279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 4 часа гоночный автомобиль преодолел расстояние в 497 км. Какова скорость этого автомобил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33520" y="2697120"/>
            <a:ext cx="3047760" cy="990720"/>
            <a:chOff x="533520" y="2697120"/>
            <a:chExt cx="3047760" cy="990720"/>
          </a:xfrm>
        </p:grpSpPr>
        <p:sp>
          <p:nvSpPr>
            <p:cNvPr id="47" name=""/>
            <p:cNvSpPr/>
            <p:nvPr/>
          </p:nvSpPr>
          <p:spPr>
            <a:xfrm>
              <a:off x="533520" y="2697120"/>
              <a:ext cx="304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97    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2697120"/>
              <a:ext cx="0" cy="990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3154320"/>
              <a:ext cx="1219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57200" y="3154320"/>
            <a:ext cx="2057400" cy="2791440"/>
            <a:chOff x="457200" y="3154320"/>
            <a:chExt cx="2057400" cy="2791440"/>
          </a:xfrm>
        </p:grpSpPr>
        <p:sp>
          <p:nvSpPr>
            <p:cNvPr id="51" name=""/>
            <p:cNvSpPr/>
            <p:nvPr/>
          </p:nvSpPr>
          <p:spPr>
            <a:xfrm>
              <a:off x="1447920" y="3154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20" y="3154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31543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9480" y="368784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6440" y="36687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76520" y="3154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40687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40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280" y="4564080"/>
              <a:ext cx="495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" y="4525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14400" y="4525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5120" y="3154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49831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" y="49071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2120" y="5440320"/>
              <a:ext cx="49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14400" y="5364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429000" y="26352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97 : 4 = 124 (1 ост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3294000"/>
            <a:ext cx="3257640" cy="57672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497 – делимо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3979800"/>
            <a:ext cx="3257640" cy="57672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4 – делител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4665600"/>
            <a:ext cx="4978440" cy="57672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24 – неполное частно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351400"/>
            <a:ext cx="4978440" cy="57672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 – остат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22520" y="6018120"/>
            <a:ext cx="6683400" cy="57672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Остаток всегда меньше дел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1T03:33:52Z</dcterms:created>
  <dc:creator>SEMEN</dc:creator>
  <dc:description/>
  <dc:language>en-US</dc:language>
  <cp:lastModifiedBy>Irina</cp:lastModifiedBy>
  <dcterms:modified xsi:type="dcterms:W3CDTF">2007-06-07T12:15:34Z</dcterms:modified>
  <cp:revision>4</cp:revision>
  <dc:subject/>
  <dc:title>Презентация PowerPoint</dc:title>
</cp:coreProperties>
</file>